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844A-9752-45D4-A6BA-28A93EC31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769D-6AC3-4C24-BA7D-A031FB833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DE4B-DE81-4643-A1AD-DA9725F41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AC3B-F3AA-4E9D-9164-11B4E10D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8D6B-EB06-46C3-9311-8C0B28EF4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F5DB-2198-40D4-B5B4-0D5510D78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3FA6-BABE-4883-8F22-E35F0C8F8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689A-F3CE-4C50-83CA-2F56ED96F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CD7E-C46C-42E0-9359-2243668FC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6026-E8C7-43AE-9D67-34A5F8C7B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7886-29F6-4842-A6A3-B0E2B8EDC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ECAE-2B1C-4601-83F3-527CC9694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7BBB-20D6-4E82-B881-2F7CB077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46E1-BE68-49E0-9C04-72534AFFD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DE53-69F4-49AC-8DDB-BD753BA46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9838-BF75-4CE9-9CA9-8291BD3B6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200-DC64-4D7C-B079-6B396519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331-77C3-442E-89E8-16F15469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952-A430-4602-A747-FBA82914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D5E-480F-4DA7-98E1-03C21EB5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0C6-601B-45B3-8B9C-FD279DDF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7B0-9BC8-4E8F-A6D8-A3482CA6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3D8-7595-4F68-ABE0-30E31C0B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0CF-B3AC-423E-A595-B7311A33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2F7-414D-4B30-8F3E-3C20204D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AEF-4F72-41C8-98D4-62967A7D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22B-2C4A-48D5-AB80-866740E4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0E5-A3BB-4CCA-AE34-58D99BFE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2E8C-26FB-46B6-850B-FEA5629654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kelly@iusd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964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fferentiating the Primary Curriculu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 Application of Depth &amp;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Meg Kelly, Meadow Park Elemen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kelly@iusd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714-292-3648 (ce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112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 icons as intellectual tools – have magnets vi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efly explain each icon and do short “activity” for a f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 – draw flo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terns – students arrange themselves boy/gir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s – thumbs up “gam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hics - $20 on playground, “what would you do?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e True Story of the 3 Little Pig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other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k students to apply as many icons as they 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inforce with icon match g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introduce icons as you use them in le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osted, “star” those that you’re working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with each story selection and no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rporate understanding of strategy and skill in student’s ow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use of 3-5 icons to extend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tamps to customize 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Graphic Organizers/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raphic Organiz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 Idea, Details, Multiple Perspectives,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acter 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ry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on M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mp a graphic organizer you already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mall Group/Independent Activ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con G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on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 students to apply as many icons as they can to story s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ryday Thin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force/weave D&amp;C icons into all areas of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s on board help with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ward students for applying icons on their 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ent L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My Classroo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show increased enthusiasm and 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are inspired by added depth to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rise to higher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apply learning to other su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 Learners make connections to vis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Taylor Education (jtayloreducation.co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mpower Primary and Inspire Change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 Practical Approach to Differentiating the Primary Curricul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y Cynthia Kirk and Katherine Squ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p and Complex Look Boo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iation Smart Reference Gu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n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me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pl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the academic language thinking tools of Depth &amp; Complexity and Content Impe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examples of how to incorporate D&amp;C tools into primary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ren will be schol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holarly trai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nder/refl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k thoughtful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learning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ck to a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arn for knowing/build curio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ify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prepared to learn and take pride in their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ing Depth &amp; Complexity tools can help you build scholarly traits and langu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epth and Complexity Icons Evolv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ovide gifted students with opportunities for higher level thinking and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ndra Kaplan, US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ly used in GATE, upper grade, middle and high school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pth and Complexity Thinking T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s, icons or prompts that activate higher levels of understa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critical thinking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omething abstract more concr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students to “jump” into the content and make sense of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expertise and inqui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good teaching strategies - much of it you do alre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cons assure that you use these strategies consistently and use them all of th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provide a common vocabulary and build academic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th and Complex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pth -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ing many single aspects of a single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ing deeper into a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oming an expert in a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xity -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ing connections across several topics or academic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ing relationships between seemingly unconnected ideas or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th &amp; Complexity I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00032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ntent Imperativ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Contribution"/>
          <p:cNvPicPr/>
          <p:nvPr/>
        </p:nvPicPr>
        <p:blipFill>
          <a:blip r:embed="rId1"/>
          <a:stretch/>
        </p:blipFill>
        <p:spPr>
          <a:xfrm>
            <a:off x="990720" y="1447920"/>
            <a:ext cx="1066680" cy="799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819520" y="1371600"/>
            <a:ext cx="3429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ffect or impact one person or event has on oth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rigin"/>
          <p:cNvPicPr/>
          <p:nvPr/>
        </p:nvPicPr>
        <p:blipFill>
          <a:blip r:embed="rId2"/>
          <a:stretch/>
        </p:blipFill>
        <p:spPr>
          <a:xfrm>
            <a:off x="990720" y="247644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819520" y="243828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beginning, root, foundation, source, or basis for someth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Parallel"/>
          <p:cNvPicPr/>
          <p:nvPr/>
        </p:nvPicPr>
        <p:blipFill>
          <a:blip r:embed="rId3"/>
          <a:stretch/>
        </p:blipFill>
        <p:spPr>
          <a:xfrm>
            <a:off x="990720" y="3581280"/>
            <a:ext cx="1015920" cy="762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743200" y="35290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something is similar, matching, comparable, or analogo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aradox"/>
          <p:cNvPicPr/>
          <p:nvPr/>
        </p:nvPicPr>
        <p:blipFill>
          <a:blip r:embed="rId4"/>
          <a:stretch/>
        </p:blipFill>
        <p:spPr>
          <a:xfrm>
            <a:off x="990720" y="4648320"/>
            <a:ext cx="1066680" cy="799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819520" y="457200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rad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ngs that are opposite, contradictory, ironic or illogic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onvergence"/>
          <p:cNvPicPr/>
          <p:nvPr/>
        </p:nvPicPr>
        <p:blipFill>
          <a:blip r:embed="rId5"/>
          <a:stretch/>
        </p:blipFill>
        <p:spPr>
          <a:xfrm>
            <a:off x="990720" y="5715000"/>
            <a:ext cx="1062000" cy="7970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971800" y="5662440"/>
            <a:ext cx="373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ideas or events meet, intersect, concur, merge, join or uni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orporating Depth &amp; Complexity Into Your Curricul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require creating new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integrate the icons into curriculum that already ex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priate for all students, not just Challenge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tools can be applied to any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tools beneficial for English Lear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icons as a whole and then in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1:41:52Z</dcterms:created>
  <dc:creator>Meg Kelly</dc:creator>
  <dc:description/>
  <dc:language>en-US</dc:language>
  <cp:lastModifiedBy>Toni Wilson</cp:lastModifiedBy>
  <dcterms:modified xsi:type="dcterms:W3CDTF">2012-03-07T01:27:05Z</dcterms:modified>
  <cp:revision>221</cp:revision>
  <dc:subject/>
  <dc:title>Depth and Complexity</dc:title>
</cp:coreProperties>
</file>